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6582-F5D0-4A62-8038-044DB2C9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A0C-6E99-4BE5-A719-DE347AC1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374-81DB-4202-B84E-9AB4D438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D2D-47DD-48FB-BB15-0B202ACE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E78-2E45-4F3E-BED6-A679A8CE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73A-FBCB-4B22-BD7B-23E38FDA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FFD-FF16-4071-A0D6-4542D03A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9769-3BFC-40D0-AF22-1DA10924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BCE-F9B4-4D0A-A062-69C9CF0C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194-E148-471B-861D-3E23B5BE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9C7-E492-4466-8489-B8D2652B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6B9-3D71-4D1E-A796-4E55AE30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51551-0758-4E2E-9D05-1AC7970DB5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CD0A7-D57E-43FF-BD13-4084E3692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n FRQ Is Not and 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n FRQ Is N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Ess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riting Focus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mmatically Sco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d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xated on minor dates and fa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mply buzzwor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n FRQ Is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hort answ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ent Focus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o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monstrates processes and concep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ility to fully explain and answer the ques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ways looped back arou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kill driv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6:25:12Z</dcterms:created>
  <dc:creator>Patriot</dc:creator>
  <dc:description/>
  <dc:language>en-US</dc:language>
  <cp:lastModifiedBy>FAdmin</cp:lastModifiedBy>
  <dcterms:modified xsi:type="dcterms:W3CDTF">2011-06-24T16:19:39Z</dcterms:modified>
  <cp:revision>3</cp:revision>
  <dc:subject/>
  <dc:title>What an FRQ Is Not and Is</dc:title>
</cp:coreProperties>
</file>